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00E-C90B-499F-BCF7-3B9E5843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408-2FA6-4663-BB1A-69310DF2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649-DC5E-40D9-9F26-926709E0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6A13-140F-4663-8A36-3CC3B607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35A5-5BBA-4FA4-A6AB-9C3992C8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095F-8E99-4BEB-B8E4-4ABCC386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8616-11BA-47AB-BA6D-20441987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C2AA-03D4-45AA-AFE5-16D77585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60BF-91F3-433F-B442-CBD490EF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74A2-E624-4DFC-B64F-F2974AF6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9C34-8E92-4E08-B16D-6A2503E1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D28-F005-4D57-A61D-8686BAC9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10EC-5E39-42C9-A8F1-49CF912F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B39E-FCDE-49A7-8D68-F70144A5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0027-914D-424E-BD0F-4240BB12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78EC-C5F2-4163-9530-14F60884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A630-6802-4741-84F9-84D942F3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376-FB8E-410B-88B1-D04B6DE3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B0F-207F-4F3B-A3E7-8A9421FD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371-2FC4-454B-88F6-78E26F93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090-3EA5-451A-B520-3090F9BF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734-7B02-4181-B645-74199746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F93E-DE79-407E-B2FB-F3E00217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C65-F77C-48B2-B8CE-FF4138CD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0A6E-F8F7-42F6-96E9-FFC088FDC16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54F4-6183-4E94-8467-19C20D8824D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onquest of the Land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05120" y="2895120"/>
            <a:ext cx="5486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Quarter 3, Lesson 5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Josh. 10:1-12:24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n The Days of the Judges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(Pages 30-35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514600"/>
            <a:ext cx="685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ut, again, let’s review…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did Israel lose 36 lives in the first attempt to take Ai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id Joshua do to correct the situation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was Ai defeate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id Israel do to lay claim on  the lan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id the kings in the land think about this “new” nation coming in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id the Gibeonites do about i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-6480"/>
            <a:ext cx="5362560" cy="6863400"/>
            <a:chOff x="0" y="-6480"/>
            <a:chExt cx="5362560" cy="6863400"/>
          </a:xfrm>
        </p:grpSpPr>
        <p:pic>
          <p:nvPicPr>
            <p:cNvPr id="120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-648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3846240" y="652464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3480" y="659232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H="1">
            <a:off x="2666520" y="1371600"/>
            <a:ext cx="3048120" cy="35053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562720" y="228600"/>
            <a:ext cx="358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Sou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648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4267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8862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736640"/>
            <a:ext cx="380988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The Battle with the Kings of the South </a:t>
            </a: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(Joshua 10:1-43)</a:t>
            </a:r>
            <a:endParaRPr b="0" lang="en-US" sz="16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Five kings of the south make war with Gibeon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1-5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Gibeon calls on Joshua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6-8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Great stones fall from heaven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9-11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The sun stands still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12-14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Kings hide in a cave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15-21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191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5105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b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5257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gl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4495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chis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armu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4343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kkeda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56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159" name=""/>
          <p:cNvSpPr/>
          <p:nvPr/>
        </p:nvSpPr>
        <p:spPr>
          <a:xfrm flipH="1">
            <a:off x="2666520" y="1371600"/>
            <a:ext cx="3048120" cy="35053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562720" y="228600"/>
            <a:ext cx="358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Sou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4648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267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8862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1736640"/>
            <a:ext cx="3809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The Battle with the Kings of the South </a:t>
            </a: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(Joshua 10:1-43)</a:t>
            </a:r>
            <a:endParaRPr b="0" lang="en-US" sz="16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Five kings of the south executed and hung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22-27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Israel then destroys Makkedah, Libnah, Lachish, Eglon, Hebron, Kadesh to Gaza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28-43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4191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5105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b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5257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gl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4495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chis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armu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4343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kkeda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35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lgal (camp)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6491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5638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bi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za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6216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adesh Barnea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5410080"/>
            <a:ext cx="3505320" cy="1373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outhern Campaign is completed!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201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Nor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4038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0" name=""/>
          <p:cNvSpPr/>
          <p:nvPr/>
        </p:nvSpPr>
        <p:spPr>
          <a:xfrm>
            <a:off x="29718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3276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4114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3276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2057400"/>
            <a:ext cx="380988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The king of Hazor calls on other kings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(Joshua 11:1-5)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45072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45072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45072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ll to the nor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ll to the hill-country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ll to the Jordan Valley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Dor to the west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ll nations in the land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45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Great army assembled against Israel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228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az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Carme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Hermon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1447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10666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9144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ea of Galilee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2860200" y="216864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ordan Valley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685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ero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533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i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143000" y="151920"/>
            <a:ext cx="4572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ishrepoth-mai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457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3" name=""/>
          <p:cNvSpPr/>
          <p:nvPr/>
        </p:nvSpPr>
        <p:spPr>
          <a:xfrm>
            <a:off x="3733920" y="533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Valley of Mizpah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572000" y="22824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4724280" y="1142640"/>
            <a:ext cx="990720" cy="2286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247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H="1" flipV="1">
            <a:off x="4724280" y="1142640"/>
            <a:ext cx="990720" cy="2286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Nor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4038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3276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4114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5" name=""/>
          <p:cNvSpPr/>
          <p:nvPr/>
        </p:nvSpPr>
        <p:spPr>
          <a:xfrm>
            <a:off x="28195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8" name=""/>
          <p:cNvSpPr/>
          <p:nvPr/>
        </p:nvSpPr>
        <p:spPr>
          <a:xfrm>
            <a:off x="2895480" y="3276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2057400"/>
            <a:ext cx="380988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Israel defeats the northern kings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(Joshua 11:6-15)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God’s plan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The battle by the waters of Merom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Chariots burned; horses crippled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Destroyed Hazor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Took spoils from the cities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228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1" name=""/>
          <p:cNvSpPr/>
          <p:nvPr/>
        </p:nvSpPr>
        <p:spPr>
          <a:xfrm>
            <a:off x="24382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az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Carme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Hermon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8" name=""/>
          <p:cNvSpPr/>
          <p:nvPr/>
        </p:nvSpPr>
        <p:spPr>
          <a:xfrm>
            <a:off x="24382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1447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10666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9144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ea of Galilee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2860200" y="216864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ordan Valley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685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ero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5" name=""/>
          <p:cNvSpPr/>
          <p:nvPr/>
        </p:nvSpPr>
        <p:spPr>
          <a:xfrm>
            <a:off x="2971800" y="533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i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143000" y="151920"/>
            <a:ext cx="4572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ishrepoth-mai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457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0" name=""/>
          <p:cNvSpPr/>
          <p:nvPr/>
        </p:nvSpPr>
        <p:spPr>
          <a:xfrm>
            <a:off x="3733920" y="533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Valley of Mizpah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572000" y="22824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293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296" name=""/>
          <p:cNvSpPr/>
          <p:nvPr/>
        </p:nvSpPr>
        <p:spPr>
          <a:xfrm flipH="1" flipV="1">
            <a:off x="4724280" y="1142640"/>
            <a:ext cx="990720" cy="2286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Nor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038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3" name=""/>
          <p:cNvSpPr/>
          <p:nvPr/>
        </p:nvSpPr>
        <p:spPr>
          <a:xfrm>
            <a:off x="29718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5" name=""/>
          <p:cNvSpPr/>
          <p:nvPr/>
        </p:nvSpPr>
        <p:spPr>
          <a:xfrm>
            <a:off x="2819520" y="3276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8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4114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2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3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276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228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6" name=""/>
          <p:cNvSpPr/>
          <p:nvPr/>
        </p:nvSpPr>
        <p:spPr>
          <a:xfrm>
            <a:off x="24382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az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Carme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2" name=""/>
          <p:cNvSpPr/>
          <p:nvPr/>
        </p:nvSpPr>
        <p:spPr>
          <a:xfrm>
            <a:off x="3429000" y="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Hermon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3" name=""/>
          <p:cNvSpPr/>
          <p:nvPr/>
        </p:nvSpPr>
        <p:spPr>
          <a:xfrm>
            <a:off x="24382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0" y="1447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5" name=""/>
          <p:cNvSpPr/>
          <p:nvPr/>
        </p:nvSpPr>
        <p:spPr>
          <a:xfrm>
            <a:off x="3048120" y="10666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7" name=""/>
          <p:cNvSpPr/>
          <p:nvPr/>
        </p:nvSpPr>
        <p:spPr>
          <a:xfrm>
            <a:off x="3505320" y="9144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ea of Galilee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860200" y="216864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ordan Valley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9" name=""/>
          <p:cNvSpPr/>
          <p:nvPr/>
        </p:nvSpPr>
        <p:spPr>
          <a:xfrm>
            <a:off x="2133720" y="685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ero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0" name=""/>
          <p:cNvSpPr/>
          <p:nvPr/>
        </p:nvSpPr>
        <p:spPr>
          <a:xfrm>
            <a:off x="2971800" y="533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i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143000" y="151920"/>
            <a:ext cx="4572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ishrepoth-mai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457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5" name=""/>
          <p:cNvSpPr/>
          <p:nvPr/>
        </p:nvSpPr>
        <p:spPr>
          <a:xfrm>
            <a:off x="3733920" y="533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Valley of Mizpah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572000" y="22824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7" name=""/>
          <p:cNvSpPr/>
          <p:nvPr/>
        </p:nvSpPr>
        <p:spPr>
          <a:xfrm>
            <a:off x="5486400" y="2590920"/>
            <a:ext cx="3505320" cy="1373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orthern Campaign is completed!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339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4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7" name=""/>
          <p:cNvSpPr/>
          <p:nvPr/>
        </p:nvSpPr>
        <p:spPr>
          <a:xfrm>
            <a:off x="2819520" y="4648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9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1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4267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4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5" name=""/>
          <p:cNvSpPr/>
          <p:nvPr/>
        </p:nvSpPr>
        <p:spPr>
          <a:xfrm>
            <a:off x="2209680" y="38862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7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8" name=""/>
          <p:cNvSpPr/>
          <p:nvPr/>
        </p:nvSpPr>
        <p:spPr>
          <a:xfrm>
            <a:off x="18288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4191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0" name=""/>
          <p:cNvSpPr/>
          <p:nvPr/>
        </p:nvSpPr>
        <p:spPr>
          <a:xfrm>
            <a:off x="274320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1" name=""/>
          <p:cNvSpPr/>
          <p:nvPr/>
        </p:nvSpPr>
        <p:spPr>
          <a:xfrm>
            <a:off x="2895480" y="5105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b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3" name=""/>
          <p:cNvSpPr/>
          <p:nvPr/>
        </p:nvSpPr>
        <p:spPr>
          <a:xfrm>
            <a:off x="1219320" y="5257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gl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4" name=""/>
          <p:cNvSpPr/>
          <p:nvPr/>
        </p:nvSpPr>
        <p:spPr>
          <a:xfrm>
            <a:off x="2438280" y="4495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6" name=""/>
          <p:cNvSpPr/>
          <p:nvPr/>
        </p:nvSpPr>
        <p:spPr>
          <a:xfrm>
            <a:off x="121932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chis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armu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8" name=""/>
          <p:cNvSpPr/>
          <p:nvPr/>
        </p:nvSpPr>
        <p:spPr>
          <a:xfrm>
            <a:off x="24382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9" name=""/>
          <p:cNvSpPr/>
          <p:nvPr/>
        </p:nvSpPr>
        <p:spPr>
          <a:xfrm>
            <a:off x="1219320" y="4343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kkeda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0" name=""/>
          <p:cNvSpPr/>
          <p:nvPr/>
        </p:nvSpPr>
        <p:spPr>
          <a:xfrm>
            <a:off x="29718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35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lgal (camp)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2" name=""/>
          <p:cNvSpPr/>
          <p:nvPr/>
        </p:nvSpPr>
        <p:spPr>
          <a:xfrm>
            <a:off x="1676520" y="6491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3" name=""/>
          <p:cNvSpPr/>
          <p:nvPr/>
        </p:nvSpPr>
        <p:spPr>
          <a:xfrm>
            <a:off x="2362320" y="5638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bi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za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6" name=""/>
          <p:cNvSpPr/>
          <p:nvPr/>
        </p:nvSpPr>
        <p:spPr>
          <a:xfrm>
            <a:off x="23623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7" name=""/>
          <p:cNvSpPr/>
          <p:nvPr/>
        </p:nvSpPr>
        <p:spPr>
          <a:xfrm>
            <a:off x="1905120" y="6216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adesh Barnea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8" name=""/>
          <p:cNvSpPr/>
          <p:nvPr/>
        </p:nvSpPr>
        <p:spPr>
          <a:xfrm>
            <a:off x="1143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9" name=""/>
          <p:cNvSpPr/>
          <p:nvPr/>
        </p:nvSpPr>
        <p:spPr>
          <a:xfrm>
            <a:off x="83808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Carme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ishrepoth-mai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i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143000" y="151920"/>
            <a:ext cx="4572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Hermon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533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Valley of Mizpah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6" name=""/>
          <p:cNvSpPr/>
          <p:nvPr/>
        </p:nvSpPr>
        <p:spPr>
          <a:xfrm>
            <a:off x="3505320" y="9144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ea of Galilee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7" name=""/>
          <p:cNvSpPr/>
          <p:nvPr/>
        </p:nvSpPr>
        <p:spPr>
          <a:xfrm rot="16200000">
            <a:off x="2860200" y="216864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ordan Valley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8" name=""/>
          <p:cNvSpPr/>
          <p:nvPr/>
        </p:nvSpPr>
        <p:spPr>
          <a:xfrm>
            <a:off x="24382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685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ero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1" name=""/>
          <p:cNvSpPr/>
          <p:nvPr/>
        </p:nvSpPr>
        <p:spPr>
          <a:xfrm>
            <a:off x="24382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az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28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4" name=""/>
          <p:cNvSpPr/>
          <p:nvPr/>
        </p:nvSpPr>
        <p:spPr>
          <a:xfrm>
            <a:off x="3048120" y="10666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0" y="1447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572000" y="22824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7" name=""/>
          <p:cNvSpPr/>
          <p:nvPr/>
        </p:nvSpPr>
        <p:spPr>
          <a:xfrm>
            <a:off x="160020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8" name=""/>
          <p:cNvSpPr/>
          <p:nvPr/>
        </p:nvSpPr>
        <p:spPr>
          <a:xfrm>
            <a:off x="1828800" y="457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9" name=""/>
          <p:cNvSpPr/>
          <p:nvPr/>
        </p:nvSpPr>
        <p:spPr>
          <a:xfrm>
            <a:off x="2971800" y="533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410080" y="228600"/>
            <a:ext cx="3733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So Joshua took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whole land...."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1295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Joshua 11:16, 23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402" name=""/>
          <p:cNvSpPr/>
          <p:nvPr/>
        </p:nvSpPr>
        <p:spPr>
          <a:xfrm>
            <a:off x="5486400" y="1676520"/>
            <a:ext cx="365760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ary: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Joshua made war a long time…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1:16-18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de no peace with any city except Gibeon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1:19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od caused the Canaanites to come to Israel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1:20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 Joshua took the whole land”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1:21-23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List of Conquered King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ses defeated the kings on the east side of Jordan (12:1-6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shua defeated the kings on the west side of Jordan (12:7-24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rael smote 31 king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t all Canaanites driven out/killed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t all of the work d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fter dividing the land, it will be “little by little”(Deut. 7:22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7:00:00Z</dcterms:created>
  <dc:creator>Don Vines</dc:creator>
  <dc:description/>
  <dc:language>en-US</dc:language>
  <cp:lastModifiedBy>Frank D Vines</cp:lastModifiedBy>
  <dcterms:modified xsi:type="dcterms:W3CDTF">2008-10-04T22:31:42Z</dcterms:modified>
  <cp:revision>46</cp:revision>
  <dc:subject/>
  <dc:title>Joshua: The New Leader</dc:title>
</cp:coreProperties>
</file>